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273-6779-4354-B814-984F25FB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E3B-B078-4A93-A567-0983CBC8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81C-A009-4F71-9E85-A48109CE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230-BABF-4FF5-B762-553DBBDE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937-E985-4441-9ADB-A3816B3D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E84-DB56-4828-839A-F8A28F8A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148-4BB4-4418-8A74-1748B1F4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FE2-A5DE-43CE-8B16-D6EAC275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140-3702-4561-95CF-D5FF1E9A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E74-17DC-43F8-8485-B46D6D3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E66-3838-4582-B720-1C3D19F0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394-7D1C-4085-A42C-1A84239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3C8-E741-49A6-8AE0-734E3846E5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 Stewardship at the NOAA Data Cen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b Topic - Value Added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764000" y="5867280"/>
            <a:ext cx="54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IP Federation Meeting, Washington, D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anuary 6-8, 2009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Illustrate_Mar93"/>
          <p:cNvPicPr/>
          <p:nvPr/>
        </p:nvPicPr>
        <p:blipFill>
          <a:blip r:embed="rId3"/>
          <a:stretch/>
        </p:blipFill>
        <p:spPr>
          <a:xfrm>
            <a:off x="1143000" y="1371600"/>
            <a:ext cx="26668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11"/>
          <p:cNvGraphicFramePr/>
          <p:nvPr/>
        </p:nvGraphicFramePr>
        <p:xfrm>
          <a:off x="4114800" y="4191120"/>
          <a:ext cx="3672000" cy="1676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4191120"/>
                    <a:ext cx="36720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5" descr=""/>
          <p:cNvPicPr/>
          <p:nvPr/>
        </p:nvPicPr>
        <p:blipFill>
          <a:blip r:embed="rId6"/>
          <a:stretch/>
        </p:blipFill>
        <p:spPr>
          <a:xfrm>
            <a:off x="4114800" y="1371600"/>
            <a:ext cx="3733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 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ata Centers data holding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= Several petabytes of environmental inform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om Space and Earth based platfor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- To make use of data integration and interoperability to deriv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to support differing  themes and SBA’s 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ergy, Transportation, Bio Diversity, Climate Change, Severe Weather, etc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e Challe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ow do we organize these data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ow do customers get the data into a GIS or other formats?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verse User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verse data types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ector, Tables, Raster / Grid ( GIS Speak 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oint, Trajectory, Time Series, Grid, Radial, Swath, etc…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Services IT Architecture Support (NCDC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ospatial Relational Database  (Oracle Spatial / PostGIS / ArcSD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info, time series data, drought, SWD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DDS Data Serv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b Server that subsets multidimensional datasets (NetCDF, GRIB, etc…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del (NOMADS), Satellite Products (SS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ent Application (Weather and Climate Toolkit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itional functionality – visualization and data export to common form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Services IT Architecture Support (NCDC)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andards for interoperability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eospatial Relational Database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(Oracle Spatial / PostGIS / ArcS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Calibri"/>
              </a:rPr>
              <a:t>WMS, WFS, Custom REST XML Web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REDDS Data Server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Calibri"/>
              </a:rPr>
              <a:t>WCS, OPeNDAP, NetCDF and XML REST Web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ent Applic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sume standards-based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F-compliant NetCDF + Common Data Mod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04920" y="1523880"/>
            <a:ext cx="86868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e Type of Value Added Product Generation Web Service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vere Weather Data Inventory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eospatial database of weather phenomena represented as point, line or polyg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artnership with UNC-Asheville/NEMAC/RENC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XRAD Level-III Storm Info, LSRs; Lightning,  Warnings, Storm Data, MPE Precip, HurS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ST Web Service Access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arch based on location, data range, within area, etc…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atistics – count, summarize by hour, day, mont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utput types (csv, xml, kmz, Shapefile, GeoRS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 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20040" y="1371600"/>
            <a:ext cx="4522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le of Private Sector vs. Public Sec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evel Playing Field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Distributed Data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rietary Information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892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4" descr="20041031-flooding-ge-2"/>
          <p:cNvPicPr/>
          <p:nvPr/>
        </p:nvPicPr>
        <p:blipFill>
          <a:blip r:embed="rId2"/>
          <a:stretch/>
        </p:blipFill>
        <p:spPr>
          <a:xfrm>
            <a:off x="457200" y="2971800"/>
            <a:ext cx="4011480" cy="258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34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4:55:43Z</dcterms:created>
  <dc:creator>stephen.a.delgreco</dc:creator>
  <dc:description/>
  <dc:language>en-US</dc:language>
  <cp:lastModifiedBy> </cp:lastModifiedBy>
  <dcterms:modified xsi:type="dcterms:W3CDTF">2009-01-06T18:51:21Z</dcterms:modified>
  <cp:revision>44</cp:revision>
  <dc:subject/>
  <dc:title>Data Stewardship at the NOAA Data Centers</dc:title>
</cp:coreProperties>
</file>